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28.png" ContentType="image/png"/>
  <Override PartName="/ppt/media/image30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E21DB-8E23-4EB8-A4FC-FD4BAFDB62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69F92-D9C5-4519-87D3-37394672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552126-ACA9-4E0E-94B8-F5F93BF3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A39DE2-A703-4CF3-A0F4-32573DCC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A75EE7-CCC9-4DEC-AA33-BA949D27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C12206-5266-45C8-BBCF-9467DF09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4F17F0-A952-4A1E-AD74-32999D5D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9BD2D5-5E9B-4740-90FA-83CE4102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6B953E-F87A-485A-B3C3-EE7ABE28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378F84-3825-4A6D-8469-FC93C768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99CA48-7C5A-45B7-A211-999847076A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E3743-62E7-4944-BC84-81728327BB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D093-751B-4883-B7BC-745153AC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B5F0C-912D-4E09-B592-F03DC17C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7288D-F6B9-47E2-AD9A-18D4065E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B44BA-6DC4-455B-A77A-05E99D19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1035E-BFE4-496C-BAA8-6AACE520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F717C-8962-4357-9D7F-96696194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CAE89-D466-4DA9-8CDF-85B5BA97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228B3-41E9-485D-89C5-8829DBCC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C8CDE-3CAB-4989-980A-6D2C6EFA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582A7-10A4-413C-8A6C-66C8AD72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240B7-8C8E-49D4-9F95-E14A0C50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C5A83-5B14-4ED1-AE2B-88439016D2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4D181-7F9E-4F95-83C4-73D057AFCA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8DA7F0-F3F1-4339-99D3-2CA3D7D850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4ECF3D-97B9-445F-937D-E08A3872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9ADF17-7A89-4367-95A5-DC4BF3E8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A63E6E-81F6-4806-866F-73C827A3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B20AED-DF46-489B-A430-F17C9C19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EF87E6-187F-4FEF-975C-730F333A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155E8C-E127-4D4B-B673-327D8820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AD80B4-897A-40B6-852A-F09E9718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CA0ED5-781B-4AED-804D-38EB44DE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6FB90-AB38-4885-886C-AD81DF16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B32D01-74BD-431B-B835-2C6EFF4C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FD9C29-85AC-405D-8BCB-3BC3DB0D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6B0FE9-9C32-4DDA-A3C3-8B78F10CE3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0AD1A-F3BA-4507-BAF9-CE7F685760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DBC74C-B5AD-4D88-B23F-3BFE1D9F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91118-0D1D-4F57-9B42-0E2BF1B3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3FC30-4E14-4D03-AF2D-CF76CD1F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1AEF1-F8C0-444E-88DF-56E7474F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3F4A0-1987-40B1-BD1F-91FCB24B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DC95D-CBF6-44CC-B5C7-0307EDCF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E6D5D-9430-49DE-8501-A6ACBEFD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17A1C-7CDD-4B74-95DC-26049835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566687-CBA5-4DD9-BB78-6D735817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CE5A6B-D67D-45AE-A9CB-4E2F4C0F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AF7E2-8453-432F-8026-F1ABAF89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55744-05CC-44AF-83F9-C344518E05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4D27C-4E63-4BEB-A5F5-FD5216F27D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38DEB-EC62-4171-B621-62736A24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64AE6-4064-4C40-B50C-8E2BE82B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BDBAD-8E73-4A9F-8939-A2ABCFBE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CC970-6BDB-4920-9B12-FA3F85BC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7BEC0-A587-4044-8984-CB96001C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FC54A-2F23-48B8-9E00-91A74D8B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23A63-48DD-478E-A009-93F9D28C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787F2-ACBF-47C5-B541-FAEF12DA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E934D-C8AA-495F-820A-2C801ED7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63E02-61C9-43EF-98A5-247D05AE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AFE26-2E31-422A-AA23-8CB67BD7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EC691-DB9F-475B-8B57-B6B21A987A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08E95-01F7-4763-9E05-3E887EF4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C7DDA-B596-43B5-8400-ACAC1EBF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C7A0B-F34F-439B-9703-C8420161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9B97B-05DB-4285-BCF9-E7A2EA50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AD3EF-0C6D-4853-ABE5-C2FC57EF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24027-DE19-4F8B-9768-44F1F4A1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AD9B2-F34F-43AE-A6FB-0BCB0860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73794-16F1-4EB7-8F88-46527838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F1F25-A48D-4029-BFA2-B7C512EC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E9D47-2DDF-467B-B569-65215E5C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DE8F5-7CA2-40D2-AF07-54CEC439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FC3B0-52B2-4383-A957-039A7D1D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FDBD4-18E7-428A-8C38-DB72A99F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E806F-8163-4C66-B579-BBB0F273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EEDA4-216B-45CF-91A7-876B6DC1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DD3D1-00FF-424E-BFFE-5BF21E3D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EFF52-1988-4D88-BCDC-6E51BBFF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6D881-BC27-4578-9D5D-55FB244D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76AB1-7625-427D-AC02-445EE10C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36081-DAC2-4184-A2BC-CD0F5F32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43255-3664-4DB1-B1BA-40A3EBF3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20125-683B-4B58-993E-023B0383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A3D0E-C1E3-43C3-8924-87B0EAFB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62B23-6D46-4B29-A58A-ABEA905F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9463D-C16A-4567-8E9A-9CC3ADB1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9CF56-676C-4B69-A3B8-AFD00D41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4AA0F-DD87-4DC6-BEDF-00694AB6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16B1D-15A7-4DEC-82E4-B0C1EE28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8B7A6-642F-4DC2-B3EE-905135C1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F249E-F60E-4C00-8CBC-B05EC061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6DED8-467A-4563-AFF3-4D7A96A1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A79AD-EA55-4E79-96A8-98A31161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954B4-1DA6-45C0-A5BA-6EC3154E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50EA3-2C9A-4367-A7DA-03ED20A8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4FBC2-78C6-42E1-ADA1-03FC17CC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E878A-2DA7-407C-B572-A2A3DEE6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E5588-F513-426E-9772-4A263EAE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7895F-6312-4187-B390-E28F3127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3D595-30E5-47A3-90C9-D5A079EE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EE59F-133F-4D8D-B237-7FB4C519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18B11-72BE-404C-9703-DC3AF6AD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96C69-4D4B-4271-A107-5D174D43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8F815-2E5A-4176-959D-A47300F6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865A9-2F07-4009-ABCF-10BA0BD1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A1E83-9FC9-4A01-B455-328479D8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5425C-08DD-4401-A5F4-99C70C47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2B6FB-F973-45FB-8127-2D941A28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00E7-6473-49ED-83CB-0A2D5F6B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611B1-4803-42BA-8FA2-1BCE1651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52BE3-1197-4FCF-8AB6-70A7FE51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D79F3-03AE-492A-8EE6-14C85FCC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F87A8-DFD2-4BC0-9B78-FAE8C440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E64CC-24A0-4DFD-9753-C4E797C5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A8477-CBD3-4E94-AFCC-9FE63085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B2A3B3-81A4-4BBA-99D4-BB2BABD0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6ADBB-DFE1-4BA3-93CC-90307B6B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1BFF5-3372-4EE9-AC53-71582005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B4A63-DF59-46E0-AFA1-5BFE1F5E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EC3EDE-1C41-4FF3-A72E-95A34A2B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4A7A1-16FF-4742-9779-033D0968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5DB08-4D36-462C-981A-AC410761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F3ADD-CC5D-4C18-8844-5FF56485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4E7A12-437F-47EE-908C-FEF897C7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FFF70-DFE8-4E10-8D7E-DC27C604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2E9434-1747-4601-9514-37B74CF9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2F25A8-79C3-43E3-803D-533B9DE0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2D68CF-4D9B-46FF-A1A2-B28F23ED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35C903-D117-4B5E-985D-22A9E621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EBB159-26C0-48AA-9889-80330A84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504FF8-750E-4B95-967E-A4B71D40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FE985-E051-4175-9B10-E5D39441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FCAC4A-CA6C-4EF4-8CC3-0BBBC383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6232C-52CC-493E-BB17-BA66F08F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976AD9-5342-4C48-8D87-43C73191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5BA655-7670-4855-A53B-A66B285B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A17850-9579-4B57-870A-B64CB7B8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92558A-9996-4A77-9954-773487A8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731018-9AA9-412B-866F-1D32B29A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3544DA-DFFF-43AD-A516-F0E08309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9FD992-CA91-41E6-9442-0FDDCB68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431583-85D7-428E-A59E-2BA3B2FE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9F2B1-6898-4A3B-BEF3-93E2F192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599D8A-A030-48B7-BB73-B1BE3217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52F12-3375-49EB-BD74-00CDF996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9741A8-1843-4DFC-B414-94CBC561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CC0912-D05E-4162-A423-AEBCDE96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7A792F-AE36-4A5B-A97E-EC7F8C35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7C7808-90FD-4758-8ED4-CED577B3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529EB1-B39D-45B9-BCBA-AD5D0616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A8D1E0-CBD5-4D7D-9F7B-08B6A959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B9A6E8-6CC5-4354-BAE1-0263FE1E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797DEF-79BC-41D7-976A-FF2571B1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E1235-28C4-490A-83A3-71ED53C3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115150-08F7-41C6-9EBF-3CCFBF31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04F6B-BD5F-4388-9AC5-8003D950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29921C-B18F-4443-BE1F-902C6C14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A528FA-35DB-42BD-A62D-6309052B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8DD53E-74F3-4FEB-AD4D-843B816D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E6843A-93E8-450F-AEF7-529375C0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77D2ED-BE29-44A7-A88D-A799E0D3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7E38FA-0413-4FAF-A182-B3D706AA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695A47-26CC-423B-88EA-0CE892ED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69F390-268A-41DF-8111-501D38AA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333286-06B7-4ACA-8033-3D365CAC9A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E04F83-97F9-4CD6-8F3E-8006FE98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F7FA98-5D04-4320-B1C9-0F2F4858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6C32D4-12F5-41CA-907D-AEC056FC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D688A0-0A21-4C87-84BA-94FC548F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C9853F-2E08-41D2-BB2F-B11DDB5D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37299A-B738-4A45-84CF-AF263CE1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C505AC-E629-4C4E-A564-2405F0B8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4C5332-2B62-41F5-885C-648AAAC2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B6E6D3-2DAD-4532-BD1E-819DFCA3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AEE38C-F9CF-4C0F-8EB0-FBF820D9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5687B3-D1F9-42C6-8ADE-25D0B39D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BDA70D-AA4A-41CE-8A9F-940075BB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515560-BACC-4FD4-8BEB-F0272882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BBD6B3-A00A-412F-A68B-241B9C63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4BD3E6-8867-4D43-8711-20874AFE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E416FD-FFFE-4E21-BE95-499D3952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B2741D-D19D-43ED-A7B5-D86D1961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38DFC2-1BA3-4C15-8233-343BF38E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A43425-517D-4789-A286-A7D16214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70216C-F72F-4945-BAF3-CFB28645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B90253-6473-470E-809B-E45AF277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380CA8-F22B-4870-8B24-07F77878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653DE1-CE38-4A5B-89E3-C44DB636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5FF874-0B2E-481E-8D2A-D3FD49B8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576665-DE94-418A-9649-6224DF76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D2B474-B6B5-41A2-BEF1-282038D6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8C5BAC-FC16-4804-8F27-F3B6F6E4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EDF88E-F9EE-4D9B-8608-DB38B86A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E818B0-B8B0-47A9-8FE9-8A69B494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FA6AAF-DD4E-4291-A0D0-C1CE0882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9693B4-FEE6-4AB9-A07B-E4A396D3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56826E-8D86-421E-9CCB-297B1351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890ACA-E7B5-46E4-B855-66E7A173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6B9BBF-C72A-403F-BEB1-09968933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BB0F3B-2100-4A4A-8CDA-F4F2C322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54D8E2-49C6-4B84-B0CD-A1657DBC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C9691E-5234-4760-8FEA-DE3A9281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755E58-CEAC-46CB-B67C-39A0CA91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DFE80E-F1DB-4CD2-866E-F77A9692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54CA7D-86D3-4D62-891A-E7AE5777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0F486E-BA4B-40BF-AEC9-DCF84AFC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1CD58E-0303-40D7-9690-8EA9C2BF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5E96AE-84EC-47B8-89D9-F51FDB52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8B182-05CE-4775-8E7D-589365F0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EE9BB6-E088-4E87-9D08-8855D5BF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FDA0C8-95C9-4892-8EA1-004A5F35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F72DE6-4E94-4802-BF8A-389ED164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9B1F4F-5761-4FE2-B85D-414DD802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EB2EAF-2822-43A8-9371-9EB89A3A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D1C56D-8F42-4951-893C-ED4E8582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C1E0C5-0E83-4B70-9F50-3D8511F4BC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41401-C13C-4F3F-BF74-908D62D35C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2999B-87CC-4EA8-B09F-3858396A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8080B-04EB-4805-AB9B-F1780D47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D7783-FBD1-48FC-8944-2B51D6E9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F7D92-033C-4778-AD51-883E6360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A0B2A-2B1E-4AF4-8416-0745A46C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F634B-2EE3-4C30-8CB5-8CF57230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0C278-14B2-4DE7-BF1A-4955F1B3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E8A11-8437-49B8-8C07-022A2191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51CA9-F7EE-4BE8-8F20-6B7400EC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D21F8-3A61-4366-A056-EC67D001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D9353-72CB-43B0-AF66-311D5E35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06DC0-DDAF-4FE6-86B8-DDC442F7EF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71B303-C6BC-4E6D-90D4-3675A38AB8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BB73C-A0AA-47C8-8A6E-44C8DA74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E15A52-5F15-4254-900B-6E50F8EC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44ADA1-206C-4D9D-B0B6-7013016D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2F8743-5CFA-483C-917D-A1D88519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9F094D-B2F7-4F64-9552-A4D871E6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43E26-E0DA-45B5-ABAA-C449AED5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F80712-3414-4CCD-84B6-C169B4F0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4B1E6-3523-48FB-B742-5C0320A5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0C1EA5-6ED1-4BE6-A44B-B1EA5AE8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9903DB-4448-4F94-A6DB-CBD7D57E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736EB6-71B1-4F62-846C-55969059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86A5-AE4A-493B-9DA3-80002DE7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C90823-85DD-47E2-92CF-0F92A6C94F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4CF51A-CA6E-4112-B377-DF05998588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26B11E-52DE-49A1-89B7-4F571880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8A1F6E-1F3B-4CF4-8C8D-4D7209C8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A55C9D-2856-43AA-AAE5-552AB213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3D0C05-5820-4728-82A8-3FCF8D79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0D54EC-BCF6-4BF7-8915-F3230948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C54DDD-B9BE-4AB2-BDF6-82E64FB8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202E4B-8591-4158-9080-5CA61AC8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55F725-291C-44A4-A3A5-F66A7EBC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253F3-5083-47BA-A5E6-BCFDBC77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A8E130-EA74-4F83-93E0-4787FFD8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2D129A-4F83-46BA-B583-FA404989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694CE7-B202-4F80-9A80-C63A716EB2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D5060-0AFE-413D-A374-96166DF937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AEAF2-5139-4632-BD22-F51BD181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D2865-C34A-46F1-8E15-6537405A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71E6B-47A9-44F8-B5CA-2129E6A9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B1E32-805A-4F98-B775-5FE2CD67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70950-CA2E-4235-9584-21DC648F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357CE-AF3B-4008-AFEA-93324B30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9E57-5188-447A-A023-AAC0FEC1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20CD7-5566-4D52-8024-8E0E0F93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9FD8D-1F39-4DEA-93B7-729F71BE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184DC-65BA-4253-AB49-057D0A0B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A21BF-5328-40BD-9DC6-28E0257A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AA8E0-4217-4141-9D60-E812FB6790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4D083-1208-43FA-81B7-AC595CB148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E51CF-B779-43B7-857B-7159CB00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3850AA-2633-469F-B1CE-1A377C81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D91FC-BE2E-4092-9D69-41A3D6B4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AE924-20B3-4004-8B56-7B7DC55A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973BC-04EC-4A84-AA08-52939B80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AB95DC-1899-4DD3-91D5-4B5189F7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80286-184A-40E0-A9C3-C70CF346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4EC245-5FAF-4FA6-877E-B4559E3A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A6E7C-B0CF-4737-82F3-A84070C0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8F6F2-A1A1-4E92-AED4-74F2BA34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540DAE-BF8D-4083-8C72-D0007CA3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AD0942-994B-4C26-A109-72E34BDF78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5C470F-84A9-4670-A300-2517279442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521838-3C19-4329-9048-82441CB2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30C960-796E-4379-B0F4-8500021B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CF39-665E-4315-B0C8-EC843A431C2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6E35-926F-48F0-84B1-92B2F984321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FAD2-AE1A-4E46-8FE7-4A0D8E36689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EDE5-79C3-457B-A900-3C8B19297DF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E065-5C04-4C9E-8E59-E79C91065BA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B803-F8E5-4969-92BE-1634E559BAD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85B9-C3EF-4B95-B775-4799D45BB4E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00C2-51A7-440A-A33C-6B660F6CFB5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A315-6C77-4AD7-87B9-9807308B265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AF30-C9BD-44AB-914C-757FAF98EC2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1EBA-E988-441F-9558-76FC323AB4E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2CDA-23BA-4B10-934F-EB2C5654A3E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51B5-FFA3-4ED5-855B-AF54B048E39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6F7F-E3ED-4CF6-9389-FA547101DEF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A5AA-51FF-4D2F-8127-4B7056F20ED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61A2-F3B6-4FB4-ABF7-C5496F3AFC7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8656-C6F9-4935-8F40-EE44926C9CC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A8B3-ACC2-4183-B5AD-61378004606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3E72-891D-44C2-80E9-657F5F9FE20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B75F-99C2-4D94-ADA2-8867A20B693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E163-B9AA-4A86-8296-D95C3E500F7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F1BC-8BEF-497B-A817-1255E155765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EF88-9352-47BA-B430-38C5FF79AF1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ADB3-C596-4325-B83F-E1B3107B947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241720" y="2841480"/>
            <a:ext cx="5569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9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乘 法 口 诀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3240" y="87480"/>
            <a:ext cx="3128760" cy="527040"/>
            <a:chOff x="3240" y="87480"/>
            <a:chExt cx="3128760" cy="527040"/>
          </a:xfrm>
        </p:grpSpPr>
        <p:pic>
          <p:nvPicPr>
            <p:cNvPr id="999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147240" y="87480"/>
              <a:ext cx="2984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3240" y="182520"/>
              <a:ext cx="414360" cy="274680"/>
              <a:chOff x="3240" y="182520"/>
              <a:chExt cx="414360" cy="274680"/>
            </a:xfrm>
          </p:grpSpPr>
          <p:sp>
            <p:nvSpPr>
              <p:cNvPr id="1001" name="椭圆 35"/>
              <p:cNvSpPr/>
              <p:nvPr/>
            </p:nvSpPr>
            <p:spPr>
              <a:xfrm rot="16200000">
                <a:off x="243360" y="348480"/>
                <a:ext cx="9864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8080" y="314280"/>
                <a:ext cx="209520" cy="11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37"/>
              <p:cNvSpPr/>
              <p:nvPr/>
            </p:nvSpPr>
            <p:spPr>
              <a:xfrm rot="16200000">
                <a:off x="243360" y="222120"/>
                <a:ext cx="9864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080" y="197640"/>
                <a:ext cx="209520" cy="11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3240" y="331200"/>
                <a:ext cx="341640" cy="10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302040"/>
                <a:ext cx="341640" cy="10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3240" y="211680"/>
                <a:ext cx="341640" cy="10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3240" y="182520"/>
                <a:ext cx="341640" cy="10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cxnSp>
        <p:nvCxnSpPr>
          <p:cNvPr id="1009" name="直接箭头连接符 93"/>
          <p:cNvCxnSpPr/>
          <p:nvPr/>
        </p:nvCxnSpPr>
        <p:spPr>
          <a:xfrm>
            <a:off x="71280" y="4993920"/>
            <a:ext cx="896544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010" name="组合 102"/>
          <p:cNvGrpSpPr/>
          <p:nvPr/>
        </p:nvGrpSpPr>
        <p:grpSpPr>
          <a:xfrm>
            <a:off x="47160" y="4496760"/>
            <a:ext cx="3874320" cy="1429560"/>
            <a:chOff x="47160" y="4496760"/>
            <a:chExt cx="3874320" cy="1429560"/>
          </a:xfrm>
        </p:grpSpPr>
        <p:sp>
          <p:nvSpPr>
            <p:cNvPr id="1011" name="弧形 96"/>
            <p:cNvSpPr/>
            <p:nvPr/>
          </p:nvSpPr>
          <p:spPr>
            <a:xfrm rot="17807400">
              <a:off x="145440" y="4751280"/>
              <a:ext cx="1136880" cy="92052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弧形 97"/>
            <p:cNvSpPr/>
            <p:nvPr/>
          </p:nvSpPr>
          <p:spPr>
            <a:xfrm rot="17807400">
              <a:off x="1018440" y="4751280"/>
              <a:ext cx="1136880" cy="92052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弧形 98"/>
            <p:cNvSpPr/>
            <p:nvPr/>
          </p:nvSpPr>
          <p:spPr>
            <a:xfrm rot="17807400">
              <a:off x="1851840" y="4751280"/>
              <a:ext cx="1136880" cy="92052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弧形 99"/>
            <p:cNvSpPr/>
            <p:nvPr/>
          </p:nvSpPr>
          <p:spPr>
            <a:xfrm rot="17807400">
              <a:off x="2685600" y="4751280"/>
              <a:ext cx="1136880" cy="92052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弧形 104"/>
          <p:cNvSpPr/>
          <p:nvPr/>
        </p:nvSpPr>
        <p:spPr>
          <a:xfrm rot="17807400">
            <a:off x="3535200" y="4750920"/>
            <a:ext cx="1136880" cy="920880"/>
          </a:xfrm>
          <a:custGeom>
            <a:avLst/>
            <a:gdLst/>
            <a:ahLst/>
            <a:rect l="l" t="t" r="r" b="b"/>
            <a:pathLst>
              <a:path stroke="0" w="1136650" h="920750">
                <a:moveTo>
                  <a:pt x="568324" y="0"/>
                </a:moveTo>
                <a:cubicBezTo>
                  <a:pt x="882201" y="0"/>
                  <a:pt x="1136649" y="206117"/>
                  <a:pt x="1136649" y="460375"/>
                </a:cubicBezTo>
                <a:cubicBezTo>
                  <a:pt x="1136649" y="584971"/>
                  <a:pt x="1075546" y="698007"/>
                  <a:pt x="976290" y="780892"/>
                </a:cubicBezTo>
                <a:lnTo>
                  <a:pt x="568325" y="460375"/>
                </a:lnTo>
                <a:close/>
              </a:path>
              <a:path fill="none" w="1136650" h="920750">
                <a:moveTo>
                  <a:pt x="568324" y="0"/>
                </a:moveTo>
                <a:cubicBezTo>
                  <a:pt x="882201" y="0"/>
                  <a:pt x="1136649" y="206117"/>
                  <a:pt x="1136649" y="460375"/>
                </a:cubicBezTo>
                <a:cubicBezTo>
                  <a:pt x="1136649" y="584971"/>
                  <a:pt x="1075546" y="698007"/>
                  <a:pt x="976290" y="780892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弧形 105"/>
          <p:cNvSpPr/>
          <p:nvPr/>
        </p:nvSpPr>
        <p:spPr>
          <a:xfrm rot="17807400">
            <a:off x="4407840" y="4751280"/>
            <a:ext cx="1136880" cy="920520"/>
          </a:xfrm>
          <a:custGeom>
            <a:avLst/>
            <a:gdLst/>
            <a:ahLst/>
            <a:rect l="l" t="t" r="r" b="b"/>
            <a:pathLst>
              <a:path stroke="0" w="1136650" h="920750">
                <a:moveTo>
                  <a:pt x="568324" y="0"/>
                </a:moveTo>
                <a:cubicBezTo>
                  <a:pt x="882201" y="0"/>
                  <a:pt x="1136649" y="206117"/>
                  <a:pt x="1136649" y="460375"/>
                </a:cubicBezTo>
                <a:cubicBezTo>
                  <a:pt x="1136649" y="584971"/>
                  <a:pt x="1075546" y="698007"/>
                  <a:pt x="976290" y="780892"/>
                </a:cubicBezTo>
                <a:lnTo>
                  <a:pt x="568325" y="460375"/>
                </a:lnTo>
                <a:close/>
              </a:path>
              <a:path fill="none" w="1136650" h="920750">
                <a:moveTo>
                  <a:pt x="568324" y="0"/>
                </a:moveTo>
                <a:cubicBezTo>
                  <a:pt x="882201" y="0"/>
                  <a:pt x="1136649" y="206117"/>
                  <a:pt x="1136649" y="460375"/>
                </a:cubicBezTo>
                <a:cubicBezTo>
                  <a:pt x="1136649" y="584971"/>
                  <a:pt x="1075546" y="698007"/>
                  <a:pt x="976290" y="780892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弧形 106"/>
          <p:cNvSpPr/>
          <p:nvPr/>
        </p:nvSpPr>
        <p:spPr>
          <a:xfrm rot="17807400">
            <a:off x="5241240" y="4751280"/>
            <a:ext cx="1136880" cy="920520"/>
          </a:xfrm>
          <a:custGeom>
            <a:avLst/>
            <a:gdLst/>
            <a:ahLst/>
            <a:rect l="l" t="t" r="r" b="b"/>
            <a:pathLst>
              <a:path stroke="0" w="1136650" h="920750">
                <a:moveTo>
                  <a:pt x="568324" y="0"/>
                </a:moveTo>
                <a:cubicBezTo>
                  <a:pt x="882201" y="0"/>
                  <a:pt x="1136649" y="206117"/>
                  <a:pt x="1136649" y="460375"/>
                </a:cubicBezTo>
                <a:cubicBezTo>
                  <a:pt x="1136649" y="584971"/>
                  <a:pt x="1075546" y="698007"/>
                  <a:pt x="976290" y="780892"/>
                </a:cubicBezTo>
                <a:lnTo>
                  <a:pt x="568325" y="460375"/>
                </a:lnTo>
                <a:close/>
              </a:path>
              <a:path fill="none" w="1136650" h="920750">
                <a:moveTo>
                  <a:pt x="568324" y="0"/>
                </a:moveTo>
                <a:cubicBezTo>
                  <a:pt x="882201" y="0"/>
                  <a:pt x="1136649" y="206117"/>
                  <a:pt x="1136649" y="460375"/>
                </a:cubicBezTo>
                <a:cubicBezTo>
                  <a:pt x="1136649" y="584971"/>
                  <a:pt x="1075546" y="698007"/>
                  <a:pt x="976290" y="780892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弧形 107"/>
          <p:cNvSpPr/>
          <p:nvPr/>
        </p:nvSpPr>
        <p:spPr>
          <a:xfrm rot="17807400">
            <a:off x="6075720" y="4752000"/>
            <a:ext cx="1136880" cy="919440"/>
          </a:xfrm>
          <a:custGeom>
            <a:avLst/>
            <a:gdLst/>
            <a:ahLst/>
            <a:rect l="l" t="t" r="r" b="b"/>
            <a:pathLst>
              <a:path stroke="0" w="1136650" h="919162">
                <a:moveTo>
                  <a:pt x="568324" y="0"/>
                </a:moveTo>
                <a:cubicBezTo>
                  <a:pt x="882201" y="0"/>
                  <a:pt x="1136649" y="205761"/>
                  <a:pt x="1136649" y="459581"/>
                </a:cubicBezTo>
                <a:cubicBezTo>
                  <a:pt x="1136649" y="584105"/>
                  <a:pt x="1075406" y="697062"/>
                  <a:pt x="975949" y="779830"/>
                </a:cubicBezTo>
                <a:lnTo>
                  <a:pt x="568325" y="459581"/>
                </a:lnTo>
                <a:close/>
              </a:path>
              <a:path fill="none" w="1136650" h="919162">
                <a:moveTo>
                  <a:pt x="568324" y="0"/>
                </a:moveTo>
                <a:cubicBezTo>
                  <a:pt x="882201" y="0"/>
                  <a:pt x="1136649" y="205761"/>
                  <a:pt x="1136649" y="459581"/>
                </a:cubicBezTo>
                <a:cubicBezTo>
                  <a:pt x="1136649" y="584105"/>
                  <a:pt x="1075406" y="697062"/>
                  <a:pt x="975949" y="77983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111"/>
          <p:cNvSpPr/>
          <p:nvPr/>
        </p:nvSpPr>
        <p:spPr>
          <a:xfrm>
            <a:off x="214200" y="5072040"/>
            <a:ext cx="308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0     9   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1"/>
          <p:cNvSpPr/>
          <p:nvPr/>
        </p:nvSpPr>
        <p:spPr>
          <a:xfrm>
            <a:off x="981720" y="71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一、探究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51"/>
          <p:cNvSpPr/>
          <p:nvPr/>
        </p:nvSpPr>
        <p:spPr>
          <a:xfrm>
            <a:off x="2571840" y="50896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51"/>
          <p:cNvSpPr/>
          <p:nvPr/>
        </p:nvSpPr>
        <p:spPr>
          <a:xfrm>
            <a:off x="3429000" y="5089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51"/>
          <p:cNvSpPr/>
          <p:nvPr/>
        </p:nvSpPr>
        <p:spPr>
          <a:xfrm>
            <a:off x="4286160" y="5089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51"/>
          <p:cNvSpPr/>
          <p:nvPr/>
        </p:nvSpPr>
        <p:spPr>
          <a:xfrm>
            <a:off x="5143680" y="50896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51"/>
          <p:cNvSpPr/>
          <p:nvPr/>
        </p:nvSpPr>
        <p:spPr>
          <a:xfrm>
            <a:off x="6000840" y="50896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51"/>
          <p:cNvSpPr/>
          <p:nvPr/>
        </p:nvSpPr>
        <p:spPr>
          <a:xfrm>
            <a:off x="6858000" y="5089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2" descr="D:\我的文档-桌面-收藏夹\桌面\2010002副本.png"/>
          <p:cNvPicPr/>
          <p:nvPr/>
        </p:nvPicPr>
        <p:blipFill>
          <a:blip r:embed="rId8"/>
          <a:stretch/>
        </p:blipFill>
        <p:spPr>
          <a:xfrm>
            <a:off x="2624040" y="1071720"/>
            <a:ext cx="1947960" cy="1482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2" descr="D:\我的文档-桌面-收藏夹\桌面\2010002副本.png"/>
          <p:cNvPicPr/>
          <p:nvPr/>
        </p:nvPicPr>
        <p:blipFill>
          <a:blip r:embed="rId9"/>
          <a:stretch/>
        </p:blipFill>
        <p:spPr>
          <a:xfrm>
            <a:off x="750960" y="1131840"/>
            <a:ext cx="1947960" cy="1482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2" descr="D:\我的文档-桌面-收藏夹\桌面\2010002副本.png"/>
          <p:cNvPicPr/>
          <p:nvPr/>
        </p:nvPicPr>
        <p:blipFill>
          <a:blip r:embed="rId10"/>
          <a:stretch/>
        </p:blipFill>
        <p:spPr>
          <a:xfrm>
            <a:off x="1500120" y="2004840"/>
            <a:ext cx="1949400" cy="1482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2" descr="D:\我的文档-桌面-收藏夹\桌面\2010002副本.png"/>
          <p:cNvPicPr/>
          <p:nvPr/>
        </p:nvPicPr>
        <p:blipFill>
          <a:blip r:embed="rId11"/>
          <a:stretch/>
        </p:blipFill>
        <p:spPr>
          <a:xfrm>
            <a:off x="1195560" y="2874960"/>
            <a:ext cx="1947600" cy="1482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2" descr="D:\我的文档-桌面-收藏夹\桌面\2010002副本.png"/>
          <p:cNvPicPr/>
          <p:nvPr/>
        </p:nvPicPr>
        <p:blipFill>
          <a:blip r:embed="rId12"/>
          <a:stretch/>
        </p:blipFill>
        <p:spPr>
          <a:xfrm>
            <a:off x="4481640" y="1017720"/>
            <a:ext cx="1947600" cy="1482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2" descr="D:\我的文档-桌面-收藏夹\桌面\2010002副本.png"/>
          <p:cNvPicPr/>
          <p:nvPr/>
        </p:nvPicPr>
        <p:blipFill>
          <a:blip r:embed="rId13"/>
          <a:stretch/>
        </p:blipFill>
        <p:spPr>
          <a:xfrm>
            <a:off x="4481640" y="1819440"/>
            <a:ext cx="1947600" cy="1484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2" descr="D:\我的文档-桌面-收藏夹\桌面\2010002副本.png"/>
          <p:cNvPicPr/>
          <p:nvPr/>
        </p:nvPicPr>
        <p:blipFill>
          <a:blip r:embed="rId14"/>
          <a:stretch/>
        </p:blipFill>
        <p:spPr>
          <a:xfrm>
            <a:off x="3584520" y="2543040"/>
            <a:ext cx="1947960" cy="1482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2" descr="D:\我的文档-桌面-收藏夹\桌面\2010002副本.png"/>
          <p:cNvPicPr/>
          <p:nvPr/>
        </p:nvPicPr>
        <p:blipFill>
          <a:blip r:embed="rId15"/>
          <a:stretch/>
        </p:blipFill>
        <p:spPr>
          <a:xfrm>
            <a:off x="6215040" y="2660760"/>
            <a:ext cx="1947960" cy="1482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2" descr="D:\我的文档-桌面-收藏夹\桌面\2010002副本.png"/>
          <p:cNvPicPr/>
          <p:nvPr/>
        </p:nvPicPr>
        <p:blipFill>
          <a:blip r:embed="rId16"/>
          <a:stretch/>
        </p:blipFill>
        <p:spPr>
          <a:xfrm>
            <a:off x="6357960" y="1374840"/>
            <a:ext cx="1947960" cy="1482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D:\我的文档-桌面-收藏夹\桌面\20090113112823516.jpg"/>
          <p:cNvPicPr/>
          <p:nvPr/>
        </p:nvPicPr>
        <p:blipFill>
          <a:blip r:embed="rId17"/>
          <a:stretch/>
        </p:blipFill>
        <p:spPr>
          <a:xfrm>
            <a:off x="7929720" y="4214880"/>
            <a:ext cx="911160" cy="785880"/>
          </a:xfrm>
          <a:prstGeom prst="rect">
            <a:avLst/>
          </a:prstGeom>
          <a:ln w="0">
            <a:noFill/>
          </a:ln>
        </p:spPr>
      </p:pic>
      <p:sp>
        <p:nvSpPr>
          <p:cNvPr id="1037" name="弧形 135"/>
          <p:cNvSpPr/>
          <p:nvPr/>
        </p:nvSpPr>
        <p:spPr>
          <a:xfrm rot="17807400">
            <a:off x="6956280" y="4750920"/>
            <a:ext cx="1136880" cy="920880"/>
          </a:xfrm>
          <a:custGeom>
            <a:avLst/>
            <a:gdLst/>
            <a:ahLst/>
            <a:rect l="l" t="t" r="r" b="b"/>
            <a:pathLst>
              <a:path stroke="0" w="1136650" h="920750">
                <a:moveTo>
                  <a:pt x="568324" y="0"/>
                </a:moveTo>
                <a:cubicBezTo>
                  <a:pt x="882201" y="0"/>
                  <a:pt x="1136649" y="206117"/>
                  <a:pt x="1136649" y="460375"/>
                </a:cubicBezTo>
                <a:cubicBezTo>
                  <a:pt x="1136649" y="584971"/>
                  <a:pt x="1075546" y="698007"/>
                  <a:pt x="976290" y="780892"/>
                </a:cubicBezTo>
                <a:lnTo>
                  <a:pt x="568325" y="460375"/>
                </a:lnTo>
                <a:close/>
              </a:path>
              <a:path fill="none" w="1136650" h="920750">
                <a:moveTo>
                  <a:pt x="568324" y="0"/>
                </a:moveTo>
                <a:cubicBezTo>
                  <a:pt x="882201" y="0"/>
                  <a:pt x="1136649" y="206117"/>
                  <a:pt x="1136649" y="460375"/>
                </a:cubicBezTo>
                <a:cubicBezTo>
                  <a:pt x="1136649" y="584971"/>
                  <a:pt x="1075546" y="698007"/>
                  <a:pt x="976290" y="780892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51"/>
          <p:cNvSpPr/>
          <p:nvPr/>
        </p:nvSpPr>
        <p:spPr>
          <a:xfrm>
            <a:off x="7715160" y="5089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八边形 7"/>
          <p:cNvSpPr/>
          <p:nvPr/>
        </p:nvSpPr>
        <p:spPr>
          <a:xfrm>
            <a:off x="457200" y="85896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圆角矩形 1"/>
          <p:cNvSpPr/>
          <p:nvPr/>
        </p:nvSpPr>
        <p:spPr>
          <a:xfrm>
            <a:off x="3429000" y="571680"/>
            <a:ext cx="2000160" cy="564336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5643360"/>
              <a:gd name="textAreaBottom" fmla="*/ 5545800 h 5643360"/>
            </a:gdLst>
            <a:ahLst/>
            <a:rect l="textAreaLeft" t="textAreaTop" r="textAreaRight" b="textAreaBottom"/>
            <a:pathLst>
              <a:path w="21600" h="60936">
                <a:moveTo>
                  <a:pt x="3600" y="0"/>
                </a:moveTo>
                <a:arcTo wR="3600" hR="3600" stAng="16200000" swAng="-5400000"/>
                <a:lnTo>
                  <a:pt x="0" y="57336"/>
                </a:lnTo>
                <a:arcTo wR="3600" hR="3600" stAng="10800000" swAng="-5400000"/>
                <a:lnTo>
                  <a:pt x="18000" y="609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99"/>
          </a:solidFill>
          <a:ln w="126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1"/>
          <p:cNvSpPr/>
          <p:nvPr/>
        </p:nvSpPr>
        <p:spPr>
          <a:xfrm>
            <a:off x="2714760" y="25002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51"/>
          <p:cNvSpPr/>
          <p:nvPr/>
        </p:nvSpPr>
        <p:spPr>
          <a:xfrm>
            <a:off x="2714760" y="19573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51"/>
          <p:cNvSpPr/>
          <p:nvPr/>
        </p:nvSpPr>
        <p:spPr>
          <a:xfrm>
            <a:off x="2714760" y="131436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51"/>
          <p:cNvSpPr/>
          <p:nvPr/>
        </p:nvSpPr>
        <p:spPr>
          <a:xfrm>
            <a:off x="4429080" y="131436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十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51"/>
          <p:cNvSpPr/>
          <p:nvPr/>
        </p:nvSpPr>
        <p:spPr>
          <a:xfrm>
            <a:off x="4286160" y="195732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二十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51"/>
          <p:cNvSpPr/>
          <p:nvPr/>
        </p:nvSpPr>
        <p:spPr>
          <a:xfrm>
            <a:off x="4286160" y="2457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三十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51"/>
          <p:cNvSpPr/>
          <p:nvPr/>
        </p:nvSpPr>
        <p:spPr>
          <a:xfrm>
            <a:off x="2786040" y="71424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组合 78"/>
          <p:cNvGrpSpPr/>
          <p:nvPr/>
        </p:nvGrpSpPr>
        <p:grpSpPr>
          <a:xfrm>
            <a:off x="1800360" y="1246320"/>
            <a:ext cx="5557680" cy="539640"/>
            <a:chOff x="1800360" y="1246320"/>
            <a:chExt cx="5557680" cy="539640"/>
          </a:xfrm>
        </p:grpSpPr>
        <p:sp>
          <p:nvSpPr>
            <p:cNvPr id="1049" name="TextBox 46"/>
            <p:cNvSpPr/>
            <p:nvPr/>
          </p:nvSpPr>
          <p:spPr>
            <a:xfrm>
              <a:off x="3500280" y="128556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二九（   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TextBox 44"/>
            <p:cNvSpPr/>
            <p:nvPr/>
          </p:nvSpPr>
          <p:spPr>
            <a:xfrm>
              <a:off x="1800360" y="1246320"/>
              <a:ext cx="10566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2×9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Box 48"/>
            <p:cNvSpPr/>
            <p:nvPr/>
          </p:nvSpPr>
          <p:spPr>
            <a:xfrm>
              <a:off x="5786640" y="1285560"/>
              <a:ext cx="1571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2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矩形 13"/>
            <p:cNvSpPr/>
            <p:nvPr/>
          </p:nvSpPr>
          <p:spPr>
            <a:xfrm>
              <a:off x="2643120" y="1285560"/>
              <a:ext cx="571320" cy="5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矩形 14"/>
            <p:cNvSpPr/>
            <p:nvPr/>
          </p:nvSpPr>
          <p:spPr>
            <a:xfrm>
              <a:off x="6572520" y="1285560"/>
              <a:ext cx="571320" cy="5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Rectangle 51"/>
          <p:cNvSpPr/>
          <p:nvPr/>
        </p:nvSpPr>
        <p:spPr>
          <a:xfrm>
            <a:off x="6572160" y="25002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51"/>
          <p:cNvSpPr/>
          <p:nvPr/>
        </p:nvSpPr>
        <p:spPr>
          <a:xfrm>
            <a:off x="6572160" y="19573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51"/>
          <p:cNvSpPr/>
          <p:nvPr/>
        </p:nvSpPr>
        <p:spPr>
          <a:xfrm>
            <a:off x="6572160" y="13572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组合 79"/>
          <p:cNvGrpSpPr/>
          <p:nvPr/>
        </p:nvGrpSpPr>
        <p:grpSpPr>
          <a:xfrm>
            <a:off x="1428840" y="1852560"/>
            <a:ext cx="5715000" cy="576360"/>
            <a:chOff x="1428840" y="1852560"/>
            <a:chExt cx="5715000" cy="576360"/>
          </a:xfrm>
        </p:grpSpPr>
        <p:sp>
          <p:nvSpPr>
            <p:cNvPr id="1058" name="TextBox 31"/>
            <p:cNvSpPr/>
            <p:nvPr/>
          </p:nvSpPr>
          <p:spPr>
            <a:xfrm>
              <a:off x="3500640" y="192852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三九（   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Box 34"/>
            <p:cNvSpPr/>
            <p:nvPr/>
          </p:nvSpPr>
          <p:spPr>
            <a:xfrm>
              <a:off x="1428840" y="185256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3×9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TextBox 32"/>
            <p:cNvSpPr/>
            <p:nvPr/>
          </p:nvSpPr>
          <p:spPr>
            <a:xfrm>
              <a:off x="5786640" y="195084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3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矩形 22"/>
            <p:cNvSpPr/>
            <p:nvPr/>
          </p:nvSpPr>
          <p:spPr>
            <a:xfrm>
              <a:off x="2643120" y="1928520"/>
              <a:ext cx="571320" cy="5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23"/>
            <p:cNvSpPr/>
            <p:nvPr/>
          </p:nvSpPr>
          <p:spPr>
            <a:xfrm>
              <a:off x="6572520" y="1928520"/>
              <a:ext cx="571320" cy="5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Rectangle 51"/>
          <p:cNvSpPr/>
          <p:nvPr/>
        </p:nvSpPr>
        <p:spPr>
          <a:xfrm>
            <a:off x="6572160" y="71424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组合 77"/>
          <p:cNvGrpSpPr/>
          <p:nvPr/>
        </p:nvGrpSpPr>
        <p:grpSpPr>
          <a:xfrm>
            <a:off x="1428840" y="714240"/>
            <a:ext cx="5715000" cy="500040"/>
            <a:chOff x="1428840" y="714240"/>
            <a:chExt cx="5715000" cy="500040"/>
          </a:xfrm>
        </p:grpSpPr>
        <p:sp>
          <p:nvSpPr>
            <p:cNvPr id="1065" name="TextBox 43"/>
            <p:cNvSpPr/>
            <p:nvPr/>
          </p:nvSpPr>
          <p:spPr>
            <a:xfrm>
              <a:off x="1428840" y="785880"/>
              <a:ext cx="128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1×9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TextBox 45"/>
            <p:cNvSpPr/>
            <p:nvPr/>
          </p:nvSpPr>
          <p:spPr>
            <a:xfrm>
              <a:off x="3500640" y="785520"/>
              <a:ext cx="15714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一九得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TextBox 47"/>
            <p:cNvSpPr/>
            <p:nvPr/>
          </p:nvSpPr>
          <p:spPr>
            <a:xfrm>
              <a:off x="5786640" y="714240"/>
              <a:ext cx="128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1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矩形 29"/>
            <p:cNvSpPr/>
            <p:nvPr/>
          </p:nvSpPr>
          <p:spPr>
            <a:xfrm>
              <a:off x="2643120" y="71424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矩形 30"/>
            <p:cNvSpPr/>
            <p:nvPr/>
          </p:nvSpPr>
          <p:spPr>
            <a:xfrm>
              <a:off x="6572520" y="71424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组合 80"/>
          <p:cNvGrpSpPr/>
          <p:nvPr/>
        </p:nvGrpSpPr>
        <p:grpSpPr>
          <a:xfrm>
            <a:off x="1405080" y="2428920"/>
            <a:ext cx="5738760" cy="571320"/>
            <a:chOff x="1405080" y="2428920"/>
            <a:chExt cx="5738760" cy="571320"/>
          </a:xfrm>
        </p:grpSpPr>
        <p:sp>
          <p:nvSpPr>
            <p:cNvPr id="1071" name="TextBox 64"/>
            <p:cNvSpPr/>
            <p:nvPr/>
          </p:nvSpPr>
          <p:spPr>
            <a:xfrm>
              <a:off x="3500280" y="242892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四九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TextBox 65"/>
            <p:cNvSpPr/>
            <p:nvPr/>
          </p:nvSpPr>
          <p:spPr>
            <a:xfrm>
              <a:off x="1405080" y="245700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4×9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34"/>
            <p:cNvSpPr/>
            <p:nvPr/>
          </p:nvSpPr>
          <p:spPr>
            <a:xfrm>
              <a:off x="2643120" y="250020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矩形 35"/>
            <p:cNvSpPr/>
            <p:nvPr/>
          </p:nvSpPr>
          <p:spPr>
            <a:xfrm>
              <a:off x="6572520" y="250020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Box 65"/>
            <p:cNvSpPr/>
            <p:nvPr/>
          </p:nvSpPr>
          <p:spPr>
            <a:xfrm>
              <a:off x="5786640" y="250020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4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Rectangle 51"/>
          <p:cNvSpPr/>
          <p:nvPr/>
        </p:nvSpPr>
        <p:spPr>
          <a:xfrm>
            <a:off x="2714760" y="30718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51"/>
          <p:cNvSpPr/>
          <p:nvPr/>
        </p:nvSpPr>
        <p:spPr>
          <a:xfrm>
            <a:off x="6572160" y="30718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组合 81"/>
          <p:cNvGrpSpPr/>
          <p:nvPr/>
        </p:nvGrpSpPr>
        <p:grpSpPr>
          <a:xfrm>
            <a:off x="1798560" y="2928960"/>
            <a:ext cx="5345280" cy="642960"/>
            <a:chOff x="1798560" y="2928960"/>
            <a:chExt cx="5345280" cy="642960"/>
          </a:xfrm>
        </p:grpSpPr>
        <p:sp>
          <p:nvSpPr>
            <p:cNvPr id="1079" name="TextBox 64"/>
            <p:cNvSpPr/>
            <p:nvPr/>
          </p:nvSpPr>
          <p:spPr>
            <a:xfrm>
              <a:off x="3500280" y="2928960"/>
              <a:ext cx="214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五九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TextBox 65"/>
            <p:cNvSpPr/>
            <p:nvPr/>
          </p:nvSpPr>
          <p:spPr>
            <a:xfrm>
              <a:off x="1798560" y="3097080"/>
              <a:ext cx="913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5×9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矩形 42"/>
            <p:cNvSpPr/>
            <p:nvPr/>
          </p:nvSpPr>
          <p:spPr>
            <a:xfrm>
              <a:off x="2642760" y="307188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矩形 43"/>
            <p:cNvSpPr/>
            <p:nvPr/>
          </p:nvSpPr>
          <p:spPr>
            <a:xfrm>
              <a:off x="6572520" y="307188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65"/>
            <p:cNvSpPr/>
            <p:nvPr/>
          </p:nvSpPr>
          <p:spPr>
            <a:xfrm>
              <a:off x="5786640" y="307188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5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Rectangle 51"/>
          <p:cNvSpPr/>
          <p:nvPr/>
        </p:nvSpPr>
        <p:spPr>
          <a:xfrm>
            <a:off x="2714760" y="36432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51"/>
          <p:cNvSpPr/>
          <p:nvPr/>
        </p:nvSpPr>
        <p:spPr>
          <a:xfrm>
            <a:off x="6572160" y="36432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组合 82"/>
          <p:cNvGrpSpPr/>
          <p:nvPr/>
        </p:nvGrpSpPr>
        <p:grpSpPr>
          <a:xfrm>
            <a:off x="1400040" y="3643200"/>
            <a:ext cx="5743800" cy="500040"/>
            <a:chOff x="1400040" y="3643200"/>
            <a:chExt cx="5743800" cy="500040"/>
          </a:xfrm>
        </p:grpSpPr>
        <p:sp>
          <p:nvSpPr>
            <p:cNvPr id="1087" name="TextBox 64"/>
            <p:cNvSpPr/>
            <p:nvPr/>
          </p:nvSpPr>
          <p:spPr>
            <a:xfrm>
              <a:off x="3499920" y="3643200"/>
              <a:ext cx="214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六九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65"/>
            <p:cNvSpPr/>
            <p:nvPr/>
          </p:nvSpPr>
          <p:spPr>
            <a:xfrm>
              <a:off x="1400040" y="365652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6×9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矩形 49"/>
            <p:cNvSpPr/>
            <p:nvPr/>
          </p:nvSpPr>
          <p:spPr>
            <a:xfrm>
              <a:off x="2642400" y="364320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矩形 50"/>
            <p:cNvSpPr/>
            <p:nvPr/>
          </p:nvSpPr>
          <p:spPr>
            <a:xfrm>
              <a:off x="6572520" y="364320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65"/>
            <p:cNvSpPr/>
            <p:nvPr/>
          </p:nvSpPr>
          <p:spPr>
            <a:xfrm>
              <a:off x="5786280" y="364320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6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Rectangle 51"/>
          <p:cNvSpPr/>
          <p:nvPr/>
        </p:nvSpPr>
        <p:spPr>
          <a:xfrm>
            <a:off x="4286160" y="29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四十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51"/>
          <p:cNvSpPr/>
          <p:nvPr/>
        </p:nvSpPr>
        <p:spPr>
          <a:xfrm>
            <a:off x="4286160" y="367200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五十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51"/>
          <p:cNvSpPr/>
          <p:nvPr/>
        </p:nvSpPr>
        <p:spPr>
          <a:xfrm>
            <a:off x="2714760" y="428616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51"/>
          <p:cNvSpPr/>
          <p:nvPr/>
        </p:nvSpPr>
        <p:spPr>
          <a:xfrm>
            <a:off x="6572160" y="428616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组合 82"/>
          <p:cNvGrpSpPr/>
          <p:nvPr/>
        </p:nvGrpSpPr>
        <p:grpSpPr>
          <a:xfrm>
            <a:off x="1400040" y="4282920"/>
            <a:ext cx="5743800" cy="503280"/>
            <a:chOff x="1400040" y="4282920"/>
            <a:chExt cx="5743800" cy="503280"/>
          </a:xfrm>
        </p:grpSpPr>
        <p:sp>
          <p:nvSpPr>
            <p:cNvPr id="1097" name="TextBox 64"/>
            <p:cNvSpPr/>
            <p:nvPr/>
          </p:nvSpPr>
          <p:spPr>
            <a:xfrm>
              <a:off x="3499920" y="4286520"/>
              <a:ext cx="21434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七九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Box 65"/>
            <p:cNvSpPr/>
            <p:nvPr/>
          </p:nvSpPr>
          <p:spPr>
            <a:xfrm>
              <a:off x="1400040" y="4282920"/>
              <a:ext cx="128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7×9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矩形 59"/>
            <p:cNvSpPr/>
            <p:nvPr/>
          </p:nvSpPr>
          <p:spPr>
            <a:xfrm>
              <a:off x="2642400" y="4286520"/>
              <a:ext cx="571320" cy="49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矩形 60"/>
            <p:cNvSpPr/>
            <p:nvPr/>
          </p:nvSpPr>
          <p:spPr>
            <a:xfrm>
              <a:off x="6572520" y="4286520"/>
              <a:ext cx="571320" cy="49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TextBox 65"/>
            <p:cNvSpPr/>
            <p:nvPr/>
          </p:nvSpPr>
          <p:spPr>
            <a:xfrm>
              <a:off x="5786280" y="4286520"/>
              <a:ext cx="128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7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Rectangle 51"/>
          <p:cNvSpPr/>
          <p:nvPr/>
        </p:nvSpPr>
        <p:spPr>
          <a:xfrm>
            <a:off x="4286160" y="431496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六十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51"/>
          <p:cNvSpPr/>
          <p:nvPr/>
        </p:nvSpPr>
        <p:spPr>
          <a:xfrm>
            <a:off x="2703600" y="49942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1"/>
          <p:cNvSpPr/>
          <p:nvPr/>
        </p:nvSpPr>
        <p:spPr>
          <a:xfrm>
            <a:off x="6572160" y="4929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组合 82"/>
          <p:cNvGrpSpPr/>
          <p:nvPr/>
        </p:nvGrpSpPr>
        <p:grpSpPr>
          <a:xfrm>
            <a:off x="1454040" y="4968720"/>
            <a:ext cx="5761080" cy="532080"/>
            <a:chOff x="1454040" y="4968720"/>
            <a:chExt cx="5761080" cy="532080"/>
          </a:xfrm>
        </p:grpSpPr>
        <p:sp>
          <p:nvSpPr>
            <p:cNvPr id="1106" name="TextBox 64"/>
            <p:cNvSpPr/>
            <p:nvPr/>
          </p:nvSpPr>
          <p:spPr>
            <a:xfrm>
              <a:off x="3571560" y="5000760"/>
              <a:ext cx="21430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八九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TextBox 65"/>
            <p:cNvSpPr/>
            <p:nvPr/>
          </p:nvSpPr>
          <p:spPr>
            <a:xfrm>
              <a:off x="1454040" y="4985640"/>
              <a:ext cx="128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9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矩形 68"/>
            <p:cNvSpPr/>
            <p:nvPr/>
          </p:nvSpPr>
          <p:spPr>
            <a:xfrm>
              <a:off x="2649240" y="496872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矩形 69"/>
            <p:cNvSpPr/>
            <p:nvPr/>
          </p:nvSpPr>
          <p:spPr>
            <a:xfrm>
              <a:off x="6643800" y="500076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Box 65"/>
            <p:cNvSpPr/>
            <p:nvPr/>
          </p:nvSpPr>
          <p:spPr>
            <a:xfrm>
              <a:off x="5847120" y="4990320"/>
              <a:ext cx="128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Rectangle 51"/>
          <p:cNvSpPr/>
          <p:nvPr/>
        </p:nvSpPr>
        <p:spPr>
          <a:xfrm>
            <a:off x="4390920" y="506556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七十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51"/>
          <p:cNvSpPr/>
          <p:nvPr/>
        </p:nvSpPr>
        <p:spPr>
          <a:xfrm>
            <a:off x="2714760" y="55720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51"/>
          <p:cNvSpPr/>
          <p:nvPr/>
        </p:nvSpPr>
        <p:spPr>
          <a:xfrm>
            <a:off x="6572160" y="55720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组合 82"/>
          <p:cNvGrpSpPr/>
          <p:nvPr/>
        </p:nvGrpSpPr>
        <p:grpSpPr>
          <a:xfrm>
            <a:off x="1450800" y="5572080"/>
            <a:ext cx="5693040" cy="500040"/>
            <a:chOff x="1450800" y="5572080"/>
            <a:chExt cx="5693040" cy="500040"/>
          </a:xfrm>
        </p:grpSpPr>
        <p:sp>
          <p:nvSpPr>
            <p:cNvPr id="1115" name="TextBox 64"/>
            <p:cNvSpPr/>
            <p:nvPr/>
          </p:nvSpPr>
          <p:spPr>
            <a:xfrm>
              <a:off x="3500280" y="557208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九九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Box 65"/>
            <p:cNvSpPr/>
            <p:nvPr/>
          </p:nvSpPr>
          <p:spPr>
            <a:xfrm>
              <a:off x="1450800" y="557820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9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矩形 78"/>
            <p:cNvSpPr/>
            <p:nvPr/>
          </p:nvSpPr>
          <p:spPr>
            <a:xfrm>
              <a:off x="2643120" y="557208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79"/>
            <p:cNvSpPr/>
            <p:nvPr/>
          </p:nvSpPr>
          <p:spPr>
            <a:xfrm>
              <a:off x="6572520" y="557208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Box 65"/>
            <p:cNvSpPr/>
            <p:nvPr/>
          </p:nvSpPr>
          <p:spPr>
            <a:xfrm>
              <a:off x="5786640" y="557208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9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Rectangle 51"/>
          <p:cNvSpPr/>
          <p:nvPr/>
        </p:nvSpPr>
        <p:spPr>
          <a:xfrm>
            <a:off x="4286160" y="560088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八十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122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3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124" name="椭圆 52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5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6" name="椭圆 58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7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8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9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0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1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矩形 3"/>
          <p:cNvSpPr/>
          <p:nvPr/>
        </p:nvSpPr>
        <p:spPr>
          <a:xfrm>
            <a:off x="897120" y="18748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9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51"/>
          <p:cNvSpPr/>
          <p:nvPr/>
        </p:nvSpPr>
        <p:spPr>
          <a:xfrm>
            <a:off x="1714680" y="18748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897280" y="18748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×9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4897440" y="18748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×9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矩形 7"/>
          <p:cNvSpPr/>
          <p:nvPr/>
        </p:nvSpPr>
        <p:spPr>
          <a:xfrm>
            <a:off x="6969240" y="18748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×9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矩形 8"/>
          <p:cNvSpPr/>
          <p:nvPr/>
        </p:nvSpPr>
        <p:spPr>
          <a:xfrm>
            <a:off x="897120" y="28036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×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矩形 9"/>
          <p:cNvSpPr/>
          <p:nvPr/>
        </p:nvSpPr>
        <p:spPr>
          <a:xfrm>
            <a:off x="2897280" y="28036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×3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10"/>
          <p:cNvSpPr/>
          <p:nvPr/>
        </p:nvSpPr>
        <p:spPr>
          <a:xfrm>
            <a:off x="4897440" y="28036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×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11"/>
          <p:cNvSpPr/>
          <p:nvPr/>
        </p:nvSpPr>
        <p:spPr>
          <a:xfrm>
            <a:off x="6969240" y="28036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×4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51"/>
          <p:cNvSpPr/>
          <p:nvPr/>
        </p:nvSpPr>
        <p:spPr>
          <a:xfrm>
            <a:off x="3786120" y="18748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51"/>
          <p:cNvSpPr/>
          <p:nvPr/>
        </p:nvSpPr>
        <p:spPr>
          <a:xfrm>
            <a:off x="5715000" y="18748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51"/>
          <p:cNvSpPr/>
          <p:nvPr/>
        </p:nvSpPr>
        <p:spPr>
          <a:xfrm>
            <a:off x="7786800" y="18748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51"/>
          <p:cNvSpPr/>
          <p:nvPr/>
        </p:nvSpPr>
        <p:spPr>
          <a:xfrm>
            <a:off x="1714680" y="28036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51"/>
          <p:cNvSpPr/>
          <p:nvPr/>
        </p:nvSpPr>
        <p:spPr>
          <a:xfrm>
            <a:off x="3786120" y="2803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51"/>
          <p:cNvSpPr/>
          <p:nvPr/>
        </p:nvSpPr>
        <p:spPr>
          <a:xfrm>
            <a:off x="5715000" y="2803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51"/>
          <p:cNvSpPr/>
          <p:nvPr/>
        </p:nvSpPr>
        <p:spPr>
          <a:xfrm>
            <a:off x="7786800" y="28036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组合 2"/>
          <p:cNvGrpSpPr/>
          <p:nvPr/>
        </p:nvGrpSpPr>
        <p:grpSpPr>
          <a:xfrm>
            <a:off x="-4680" y="87480"/>
            <a:ext cx="3136680" cy="527040"/>
            <a:chOff x="-4680" y="87480"/>
            <a:chExt cx="3136680" cy="527040"/>
          </a:xfrm>
        </p:grpSpPr>
        <p:pic>
          <p:nvPicPr>
            <p:cNvPr id="1149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140040" y="87480"/>
              <a:ext cx="29919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0" name="组合 4"/>
            <p:cNvGrpSpPr/>
            <p:nvPr/>
          </p:nvGrpSpPr>
          <p:grpSpPr>
            <a:xfrm>
              <a:off x="-4680" y="182520"/>
              <a:ext cx="415440" cy="274680"/>
              <a:chOff x="-4680" y="182520"/>
              <a:chExt cx="415440" cy="274680"/>
            </a:xfrm>
          </p:grpSpPr>
          <p:sp>
            <p:nvSpPr>
              <p:cNvPr id="1151" name="椭圆 35"/>
              <p:cNvSpPr/>
              <p:nvPr/>
            </p:nvSpPr>
            <p:spPr>
              <a:xfrm rot="16200000">
                <a:off x="235800" y="348480"/>
                <a:ext cx="9864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2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1240" y="314280"/>
                <a:ext cx="209520" cy="11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3" name="椭圆 37"/>
              <p:cNvSpPr/>
              <p:nvPr/>
            </p:nvSpPr>
            <p:spPr>
              <a:xfrm rot="16200000">
                <a:off x="235800" y="222120"/>
                <a:ext cx="9864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4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1240" y="197640"/>
                <a:ext cx="209520" cy="11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5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4680" y="330840"/>
                <a:ext cx="342360" cy="10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4680" y="301680"/>
                <a:ext cx="342360" cy="10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7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4680" y="211680"/>
                <a:ext cx="342360" cy="10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8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4680" y="182520"/>
                <a:ext cx="342360" cy="10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9" name="Rectangle 64"/>
          <p:cNvSpPr/>
          <p:nvPr/>
        </p:nvSpPr>
        <p:spPr>
          <a:xfrm>
            <a:off x="144360" y="73080"/>
            <a:ext cx="30942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6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6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4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1" name="Rectangle 64"/>
          <p:cNvSpPr/>
          <p:nvPr/>
        </p:nvSpPr>
        <p:spPr>
          <a:xfrm>
            <a:off x="285840" y="98280"/>
            <a:ext cx="2946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32"/>
          <p:cNvSpPr/>
          <p:nvPr/>
        </p:nvSpPr>
        <p:spPr>
          <a:xfrm>
            <a:off x="379440" y="917640"/>
            <a:ext cx="8448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乘法口诀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句，每相邻两句口诀的积相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乘法口诀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除了最后一句，每一句都可以写出两个乘法算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341280" y="9828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补充口诀并写两道乘法算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十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六九（五十四）　八九（七十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组合 2"/>
          <p:cNvGrpSpPr/>
          <p:nvPr/>
        </p:nvGrpSpPr>
        <p:grpSpPr>
          <a:xfrm>
            <a:off x="14400" y="77760"/>
            <a:ext cx="3267000" cy="525600"/>
            <a:chOff x="14400" y="77760"/>
            <a:chExt cx="3267000" cy="525600"/>
          </a:xfrm>
        </p:grpSpPr>
        <p:pic>
          <p:nvPicPr>
            <p:cNvPr id="1175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166320" y="77760"/>
              <a:ext cx="31150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6" name="组合 4"/>
            <p:cNvGrpSpPr/>
            <p:nvPr/>
          </p:nvGrpSpPr>
          <p:grpSpPr>
            <a:xfrm>
              <a:off x="14400" y="181080"/>
              <a:ext cx="433080" cy="273600"/>
              <a:chOff x="14400" y="181080"/>
              <a:chExt cx="433080" cy="273600"/>
            </a:xfrm>
          </p:grpSpPr>
          <p:sp>
            <p:nvSpPr>
              <p:cNvPr id="1177" name="椭圆 35"/>
              <p:cNvSpPr/>
              <p:nvPr/>
            </p:nvSpPr>
            <p:spPr>
              <a:xfrm rot="16200000">
                <a:off x="257760" y="344880"/>
                <a:ext cx="9900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8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080" y="307800"/>
                <a:ext cx="212400" cy="11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椭圆 37"/>
              <p:cNvSpPr/>
              <p:nvPr/>
            </p:nvSpPr>
            <p:spPr>
              <a:xfrm rot="16200000">
                <a:off x="257760" y="217800"/>
                <a:ext cx="9900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0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235080" y="195480"/>
                <a:ext cx="212400" cy="11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1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00" y="323640"/>
                <a:ext cx="35964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2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0" y="295560"/>
                <a:ext cx="35964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3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0" y="209160"/>
                <a:ext cx="35964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4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14400" y="181080"/>
                <a:ext cx="35964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85" name="直接连接符 22"/>
          <p:cNvSpPr/>
          <p:nvPr/>
        </p:nvSpPr>
        <p:spPr>
          <a:xfrm>
            <a:off x="519120" y="2798640"/>
            <a:ext cx="2181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直接连接符 24"/>
          <p:cNvSpPr/>
          <p:nvPr/>
        </p:nvSpPr>
        <p:spPr>
          <a:xfrm>
            <a:off x="487440" y="3735360"/>
            <a:ext cx="2284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直接连接符 26"/>
          <p:cNvSpPr/>
          <p:nvPr/>
        </p:nvSpPr>
        <p:spPr>
          <a:xfrm>
            <a:off x="3244680" y="2798640"/>
            <a:ext cx="22640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直接连接符 28"/>
          <p:cNvSpPr/>
          <p:nvPr/>
        </p:nvSpPr>
        <p:spPr>
          <a:xfrm>
            <a:off x="3244680" y="3735360"/>
            <a:ext cx="2354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直接连接符 32"/>
          <p:cNvSpPr/>
          <p:nvPr/>
        </p:nvSpPr>
        <p:spPr>
          <a:xfrm>
            <a:off x="6043680" y="2798640"/>
            <a:ext cx="2417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直接连接符 38"/>
          <p:cNvSpPr/>
          <p:nvPr/>
        </p:nvSpPr>
        <p:spPr>
          <a:xfrm>
            <a:off x="6097680" y="3735360"/>
            <a:ext cx="25066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39"/>
          <p:cNvSpPr/>
          <p:nvPr/>
        </p:nvSpPr>
        <p:spPr>
          <a:xfrm>
            <a:off x="573120" y="2273400"/>
            <a:ext cx="19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×9=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43"/>
          <p:cNvSpPr/>
          <p:nvPr/>
        </p:nvSpPr>
        <p:spPr>
          <a:xfrm>
            <a:off x="668160" y="3137040"/>
            <a:ext cx="17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9×3=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44"/>
          <p:cNvSpPr/>
          <p:nvPr/>
        </p:nvSpPr>
        <p:spPr>
          <a:xfrm>
            <a:off x="3371760" y="228456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×9=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46"/>
          <p:cNvSpPr/>
          <p:nvPr/>
        </p:nvSpPr>
        <p:spPr>
          <a:xfrm>
            <a:off x="3430440" y="3170160"/>
            <a:ext cx="15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9×6=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47"/>
          <p:cNvSpPr/>
          <p:nvPr/>
        </p:nvSpPr>
        <p:spPr>
          <a:xfrm>
            <a:off x="6168960" y="2273400"/>
            <a:ext cx="216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×9=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49"/>
          <p:cNvSpPr/>
          <p:nvPr/>
        </p:nvSpPr>
        <p:spPr>
          <a:xfrm>
            <a:off x="6168960" y="3244680"/>
            <a:ext cx="15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9×8=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4"/>
          <p:cNvSpPr/>
          <p:nvPr/>
        </p:nvSpPr>
        <p:spPr>
          <a:xfrm>
            <a:off x="573120" y="2273400"/>
            <a:ext cx="1585800" cy="4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矩形 1"/>
          <p:cNvSpPr/>
          <p:nvPr/>
        </p:nvSpPr>
        <p:spPr>
          <a:xfrm>
            <a:off x="735120" y="3046320"/>
            <a:ext cx="158580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矩形 2"/>
          <p:cNvSpPr/>
          <p:nvPr/>
        </p:nvSpPr>
        <p:spPr>
          <a:xfrm>
            <a:off x="3371760" y="2273400"/>
            <a:ext cx="158760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矩形 3"/>
          <p:cNvSpPr/>
          <p:nvPr/>
        </p:nvSpPr>
        <p:spPr>
          <a:xfrm>
            <a:off x="3406680" y="3179880"/>
            <a:ext cx="158760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矩形 4"/>
          <p:cNvSpPr/>
          <p:nvPr/>
        </p:nvSpPr>
        <p:spPr>
          <a:xfrm>
            <a:off x="6093000" y="2273400"/>
            <a:ext cx="158724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矩形 5"/>
          <p:cNvSpPr/>
          <p:nvPr/>
        </p:nvSpPr>
        <p:spPr>
          <a:xfrm>
            <a:off x="6216480" y="3209760"/>
            <a:ext cx="158760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422280" y="90756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算一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5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×9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4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3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2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1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9=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8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7×9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8=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205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6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207" name="椭圆 35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8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9" name="椭圆 37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0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1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2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3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4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5" name="矩形 14"/>
          <p:cNvSpPr/>
          <p:nvPr/>
        </p:nvSpPr>
        <p:spPr>
          <a:xfrm>
            <a:off x="1582560" y="159084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矩形 1"/>
          <p:cNvSpPr/>
          <p:nvPr/>
        </p:nvSpPr>
        <p:spPr>
          <a:xfrm>
            <a:off x="1577880" y="216864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矩形 2"/>
          <p:cNvSpPr/>
          <p:nvPr/>
        </p:nvSpPr>
        <p:spPr>
          <a:xfrm>
            <a:off x="1644480" y="2806560"/>
            <a:ext cx="53352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矩形 3"/>
          <p:cNvSpPr/>
          <p:nvPr/>
        </p:nvSpPr>
        <p:spPr>
          <a:xfrm>
            <a:off x="4402080" y="161136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矩形 4"/>
          <p:cNvSpPr/>
          <p:nvPr/>
        </p:nvSpPr>
        <p:spPr>
          <a:xfrm>
            <a:off x="4425840" y="2198520"/>
            <a:ext cx="53352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矩形 5"/>
          <p:cNvSpPr/>
          <p:nvPr/>
        </p:nvSpPr>
        <p:spPr>
          <a:xfrm>
            <a:off x="4371840" y="2755800"/>
            <a:ext cx="53352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矩形 6"/>
          <p:cNvSpPr/>
          <p:nvPr/>
        </p:nvSpPr>
        <p:spPr>
          <a:xfrm>
            <a:off x="7432560" y="1631880"/>
            <a:ext cx="53352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矩形 7"/>
          <p:cNvSpPr/>
          <p:nvPr/>
        </p:nvSpPr>
        <p:spPr>
          <a:xfrm>
            <a:off x="7473960" y="217008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8"/>
          <p:cNvSpPr/>
          <p:nvPr/>
        </p:nvSpPr>
        <p:spPr>
          <a:xfrm>
            <a:off x="7432560" y="2787480"/>
            <a:ext cx="53352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 txBox="1"/>
          <p:nvPr/>
        </p:nvSpPr>
        <p:spPr>
          <a:xfrm>
            <a:off x="422280" y="90756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在    里填上正确的数，并找出其中的规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×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5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226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7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228" name="椭圆 35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9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0" name="椭圆 37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1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2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3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4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5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6" name="Rectangle 82605"/>
          <p:cNvSpPr/>
          <p:nvPr/>
        </p:nvSpPr>
        <p:spPr>
          <a:xfrm>
            <a:off x="1739880" y="1030320"/>
            <a:ext cx="3618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82605"/>
          <p:cNvSpPr/>
          <p:nvPr/>
        </p:nvSpPr>
        <p:spPr>
          <a:xfrm>
            <a:off x="2708280" y="2104920"/>
            <a:ext cx="43488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82605"/>
          <p:cNvSpPr/>
          <p:nvPr/>
        </p:nvSpPr>
        <p:spPr>
          <a:xfrm>
            <a:off x="2708280" y="2646360"/>
            <a:ext cx="43488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82605"/>
          <p:cNvSpPr/>
          <p:nvPr/>
        </p:nvSpPr>
        <p:spPr>
          <a:xfrm>
            <a:off x="2708280" y="3227400"/>
            <a:ext cx="43488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82605"/>
          <p:cNvSpPr/>
          <p:nvPr/>
        </p:nvSpPr>
        <p:spPr>
          <a:xfrm>
            <a:off x="2708280" y="3807000"/>
            <a:ext cx="43488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82605"/>
          <p:cNvSpPr/>
          <p:nvPr/>
        </p:nvSpPr>
        <p:spPr>
          <a:xfrm>
            <a:off x="2708280" y="4370400"/>
            <a:ext cx="43488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82605"/>
          <p:cNvSpPr/>
          <p:nvPr/>
        </p:nvSpPr>
        <p:spPr>
          <a:xfrm>
            <a:off x="6561000" y="2104920"/>
            <a:ext cx="43524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82605"/>
          <p:cNvSpPr/>
          <p:nvPr/>
        </p:nvSpPr>
        <p:spPr>
          <a:xfrm>
            <a:off x="6561000" y="2646360"/>
            <a:ext cx="43524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82605"/>
          <p:cNvSpPr/>
          <p:nvPr/>
        </p:nvSpPr>
        <p:spPr>
          <a:xfrm>
            <a:off x="6561000" y="3227400"/>
            <a:ext cx="43524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82605"/>
          <p:cNvSpPr/>
          <p:nvPr/>
        </p:nvSpPr>
        <p:spPr>
          <a:xfrm>
            <a:off x="6561000" y="3807000"/>
            <a:ext cx="43524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矩形 14"/>
          <p:cNvSpPr/>
          <p:nvPr/>
        </p:nvSpPr>
        <p:spPr>
          <a:xfrm>
            <a:off x="2762280" y="2181240"/>
            <a:ext cx="32076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矩形 10"/>
          <p:cNvSpPr/>
          <p:nvPr/>
        </p:nvSpPr>
        <p:spPr>
          <a:xfrm>
            <a:off x="6597720" y="2184480"/>
            <a:ext cx="32076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矩形 12"/>
          <p:cNvSpPr/>
          <p:nvPr/>
        </p:nvSpPr>
        <p:spPr>
          <a:xfrm>
            <a:off x="2738520" y="2720880"/>
            <a:ext cx="32220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矩形 13"/>
          <p:cNvSpPr/>
          <p:nvPr/>
        </p:nvSpPr>
        <p:spPr>
          <a:xfrm>
            <a:off x="6597720" y="2727360"/>
            <a:ext cx="32076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矩形 15"/>
          <p:cNvSpPr/>
          <p:nvPr/>
        </p:nvSpPr>
        <p:spPr>
          <a:xfrm>
            <a:off x="2738520" y="3292560"/>
            <a:ext cx="32220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矩形 16"/>
          <p:cNvSpPr/>
          <p:nvPr/>
        </p:nvSpPr>
        <p:spPr>
          <a:xfrm>
            <a:off x="6638760" y="3306600"/>
            <a:ext cx="32076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矩形 17"/>
          <p:cNvSpPr/>
          <p:nvPr/>
        </p:nvSpPr>
        <p:spPr>
          <a:xfrm>
            <a:off x="2738520" y="3887640"/>
            <a:ext cx="32220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矩形 18"/>
          <p:cNvSpPr/>
          <p:nvPr/>
        </p:nvSpPr>
        <p:spPr>
          <a:xfrm>
            <a:off x="6594480" y="3882960"/>
            <a:ext cx="32076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矩形 20"/>
          <p:cNvSpPr/>
          <p:nvPr/>
        </p:nvSpPr>
        <p:spPr>
          <a:xfrm>
            <a:off x="2768760" y="4444920"/>
            <a:ext cx="32220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 txBox="1"/>
          <p:nvPr/>
        </p:nvSpPr>
        <p:spPr>
          <a:xfrm>
            <a:off x="422280" y="90756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钟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需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秒，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需要多少时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=36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（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答：敲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下需要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6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257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8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259" name="椭圆 35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0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1" name="椭圆 37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2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3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4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5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6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7" name="矩形 14"/>
          <p:cNvSpPr/>
          <p:nvPr/>
        </p:nvSpPr>
        <p:spPr>
          <a:xfrm>
            <a:off x="2414520" y="2073240"/>
            <a:ext cx="4332240" cy="133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0:38:00Z</dcterms:created>
  <dc:creator/>
  <dc:description/>
  <dc:language>en-US</dc:language>
  <cp:lastModifiedBy>万润仪器贸易公司</cp:lastModifiedBy>
  <dcterms:modified xsi:type="dcterms:W3CDTF">2020-08-21T00:39:53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